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7535-223E-4F1E-A182-F2B6A54D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829CC-70E2-4CE3-AF34-A40E9C4A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224B-1D11-4707-86D1-9BBCAF83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4F88-85D9-4FDB-B9A3-113C274F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C44-BE4C-4F07-9B5A-4CAB9F0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1BF2-2CDA-4AF2-94D4-4B0A8704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8F5-41E0-4145-88EE-8A9D95A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3F38-57CC-44A3-87D5-F2A376ED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66B-03BF-4907-A3CF-EEB8261B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C105-0935-4DBB-93E6-A9833C70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1655-0782-4F98-9295-85FA0792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DF40-D783-45AB-90B9-4E20151B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0709-5CCB-453D-89DC-20F9B8B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C331-D051-43C3-AE11-45818B1E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8311-4A72-4228-B7F7-B54F732C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A0E-F206-4ADD-8243-02FE7051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090E-8CED-4D3A-81DF-CECFA382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7138C-FD6A-4755-B5F1-3B02AB55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38BF-0D87-4EC8-A058-6F718E7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4253-8F4C-4CA0-9262-C5F0DCBA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2849-11B6-4620-8A30-2C7A88CF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027D-3A2A-4B9B-B6F4-A09EF71D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49AA-2B19-48E4-B0D5-7692AADD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322A-38C5-43B5-A9C2-164FFAF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FE86-0B4A-431B-ACC8-194C6630D1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EBE-2A6C-4555-888B-5491A67290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urgos_Airport" TargetMode="External"/><Relationship Id="rId2" Type="http://schemas.openxmlformats.org/officeDocument/2006/relationships/hyperlink" Target="http://en.wikipedia.org/wiki/Burgos_Airpor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Cathedral of Burg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306072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914560" cy="4381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707880" y="5516640"/>
            <a:ext cx="24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By Carlos,Ismael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rg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6º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cc"/>
                </a:solidFill>
                <a:latin typeface="Tahoma"/>
              </a:rPr>
              <a:t>City and Foo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city:It has a well-developed transportation system, forming the main communication node in northern Spain. In 2008, the international </a:t>
            </a:r>
            <a:r>
              <a:rPr b="0" lang="es-ES" sz="2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Burgos </a:t>
            </a:r>
            <a:r>
              <a:rPr b="0" lang="es-ES" sz="2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Airpor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tarted to offer commercial flight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most famous dish is the morcilla of Burgos. Because the people liked this dis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148360" y="1413000"/>
            <a:ext cx="37447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http://upload.wikimedia.org/wikipedia/commons/thumb/5/59/Burgos_Capital_-_Mapa_municipal.svg/310px-Burgos_Capital_-_Mapa_municipal.svg.png"/>
          <p:cNvPicPr/>
          <p:nvPr/>
        </p:nvPicPr>
        <p:blipFill>
          <a:blip r:embed="rId1"/>
          <a:stretch/>
        </p:blipFill>
        <p:spPr>
          <a:xfrm>
            <a:off x="179280" y="620640"/>
            <a:ext cx="4017960" cy="5184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56000" y="765000"/>
            <a:ext cx="39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gos (Spanish pronunciation: is a city in northern Spain and the historic capital of Cas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File:Human Evolution Museum.jpg"/>
          <p:cNvPicPr/>
          <p:nvPr/>
        </p:nvPicPr>
        <p:blipFill>
          <a:blip r:embed="rId1"/>
          <a:stretch/>
        </p:blipFill>
        <p:spPr>
          <a:xfrm>
            <a:off x="539640" y="1557360"/>
            <a:ext cx="4392720" cy="430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1761480"/>
            <a:ext cx="34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useum of Human Evolutio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Spanish: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Museo de la Evolución Human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is a museum on the subject of human evolution situated on the south bank of the river Arlanzón, in the Spanish city of Burgos.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57280" y="27792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s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9:04:03Z</dcterms:created>
  <dc:creator>pc10</dc:creator>
  <dc:description/>
  <dc:language>en-US</dc:language>
  <cp:lastModifiedBy>pc10</cp:lastModifiedBy>
  <dcterms:modified xsi:type="dcterms:W3CDTF">2014-02-10T09:35:52Z</dcterms:modified>
  <cp:revision>9</cp:revision>
  <dc:subject/>
  <dc:title>Diapositiva 1</dc:title>
</cp:coreProperties>
</file>